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F9F6B-51AC-4DC0-BFF9-2CFF8CA7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C2042-9CD4-42A7-A42F-6DE78B21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4A7AF-ACC9-4A67-A935-8306F7D1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D94D-0F91-47FC-8D00-87464155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3905-0D1A-482E-86E1-7E5C31E1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4223-40F3-455A-9725-6B207A3C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E757-98EC-4B39-93DD-D9E5222A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8EC0-F45A-4620-AB2E-22D837DD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5A00-A684-42CD-80C8-279764A4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B22A-6D7F-4936-B14C-CBCEA057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D393-F835-4FB4-A432-68CE3BFF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05A8B-E8FF-4189-8899-E9BCB6F7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AE9A-EB7E-4F77-A029-477C30C8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E1DA-C75C-4EB1-A9A6-F08E330A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9DE1-8F2C-4BB7-AF3A-3BB5010E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D3FB-5185-4212-85DD-64030AFD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C6A8-649A-414D-977E-C2D84922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E5513-A5E5-4C93-BD3D-75716063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8EE73-DBE2-475A-9923-975C3A20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4A138-92F9-4171-91DF-440655E3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4D644-6895-4F04-95D5-BF01676D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7A6AD-E3C0-4E50-B217-4198FF21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526F0-58F9-4A5C-BCB6-3146B3E7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9048A-E96C-4725-BE8B-A110CF9B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9C0B-3FF0-4FB3-823A-69F442DD6FF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7B7E-D0DB-4EF7-B785-C3780C28F04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in the World is Cinderella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ying cultures around the world using the classic fairy tale of Cinder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ssential Ques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what ways does literature reflect the   culture of its countr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Geograph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the help of Cinderella, you will learn the geography of this country and how it affects its cul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514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ul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8:06:28Z</dcterms:created>
  <dc:creator>Eldred Central School</dc:creator>
  <dc:description/>
  <dc:language>en-US</dc:language>
  <cp:lastModifiedBy>Eldred Central School</cp:lastModifiedBy>
  <dcterms:modified xsi:type="dcterms:W3CDTF">2010-06-30T18:28:26Z</dcterms:modified>
  <cp:revision>2</cp:revision>
  <dc:subject/>
  <dc:title>Where in the World is Cinderella?</dc:title>
</cp:coreProperties>
</file>